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8756-8B3A-41AD-B700-7DA67F08C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84BA-CEB4-49A0-9E26-03E554AF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1794-4640-45B7-A5E2-8FB53F04E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F48C-1E67-4763-B634-DC359E815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2708-02A5-4CEE-A80B-194ACFA6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606D-F643-409B-A493-EDD116D6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3912-1266-4FD7-81B4-26CD7D4D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76F8-B838-4A73-ABAE-0207475D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170A-CAF8-4394-A654-530AC101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3535-56DE-4F8D-8178-5994B9A0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420A-C315-48EF-8BD5-7F03436F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25D6-E85D-4FE2-98BF-647B1148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7B84-5E29-490F-971A-44F829BF4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5, Lesson 4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457200"/>
            <a:ext cx="8076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id organized his men into _______ groups.  The commanders appointed were __________, ________________, and 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ifference of opinion was there between David and his men about the upcoming batt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mmand issued by David as his soldiers departed w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news did one of the men bring to Joab about Absal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57800" y="457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8380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12193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ishai, Joab’s broth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tai, the Gitt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2743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ther or not David himself would go into battle with the arm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419112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al gently for my sake with the young man, even with Absalom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56386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salom was hanging in an oak tr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0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457200"/>
            <a:ext cx="784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How did Absalom di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 Why did Joab not want Ahimaaz to carry news to David of the army’s victory over Absalom’s for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. David’s first question w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. What was David’s sad, mournful lament when he realized Absalom was de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. Why did Joab rebuke his k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91440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ab took 3 darts and thrust them into Absalom’s heart.  Then, 10 of his men beat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350532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 young man Absalom saf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36232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did not want David to learn that Absalom was dead from Ahima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50292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uld God I had died for thee, O Absalom, my son, my son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601992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vid was mourning over Absalom. The men risked their life against an enemy to David.  It made the men ashamed as if they had lost the batt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0">
    <p:zoom dir="in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48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AutoNum type="arabicPeriod" startAt="10"/>
              <a:tabLst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change did David make in his demean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10"/>
              <a:tabLst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10"/>
              <a:tabLst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10"/>
              <a:tabLst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was there strife and turmoil in the kingdom a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10"/>
              <a:tabLst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10"/>
              <a:tabLst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10"/>
              <a:tabLst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10"/>
              <a:tabLst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question did David address to the men of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da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10"/>
              <a:tabLst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10"/>
              <a:tabLst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10"/>
              <a:tabLst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 startAt="10"/>
              <a:tabLst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is it surprising to learn that David asked Amas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be captain of his host and not Joa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91440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arose, sat at the gate, and greeted his soldi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243828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vid had fled, Absalom was dead, people were in limbo and the king was not retur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617220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cause Amasa was captain of Absalom’s arm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19112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are you not bringing me back to Jerusalem.  All of Israel is talking, but you are my kin and doing not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0">
    <p:zoom dir="in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457200"/>
            <a:ext cx="7848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. What makes it surprising to find Shimei among th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welcomed David home so profuse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. How did Mephibosheth explain to David why he ha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gone with hi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. David urged his loyal helper, ___________, to go 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rusalem with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7. Why did he decline this invit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57800" y="4114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rzill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5638680"/>
            <a:ext cx="708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was old, hard of hearing, and not eating well.  It would be a waste and a burden to David for him to go.  He asked if his son could 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3124080"/>
            <a:ext cx="69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ce he was lame, his servant, Ziba, had left him.  Then he  went and slandered his name to Dav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1295280"/>
            <a:ext cx="66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imei had cursed David.  Now he apologized and helped David cross the river.  This was all he could 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0">
    <p:zoom dir="in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4:21:21Z</dcterms:created>
  <dc:creator>Frank D Vines</dc:creator>
  <dc:description/>
  <dc:language>en-US</dc:language>
  <cp:lastModifiedBy>Frank D Vines</cp:lastModifiedBy>
  <dcterms:modified xsi:type="dcterms:W3CDTF">2005-07-09T03:28:36Z</dcterms:modified>
  <cp:revision>5</cp:revision>
  <dc:subject/>
  <dc:title>Questions and Answers</dc:title>
</cp:coreProperties>
</file>